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move the slide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1287-E2D6-4685-AF6F-D11F67839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D287-E144-4791-8B65-D2495DFE7F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F94-4B4E-4149-9893-DCFBFDFE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5DC-2B15-4892-95DD-E38DC6E3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132-153A-4C2B-98B8-2ADDF4A7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286-95E1-4861-9976-BE78A393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EC9-1C7F-451C-A32C-CFCE72F3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1C7-1F27-45AC-8DC2-B6918FB9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60A-44B4-4AFA-8E29-7FD93AF6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AF0E-EF71-437C-9818-3212D8A2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3D4A-3E1D-4D74-8CE4-1F63044F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C73E-30AE-4067-9354-81F57833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34B2-09A8-4915-B44E-B20DDB0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F8E-95B6-432F-A9BC-FB75C537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558-097F-4073-8A89-FA24160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32C3-47BB-486D-9213-4E31A3E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F70C-7727-42FD-B72A-043360D2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B6E-DEFC-47DB-9F22-6B76CD5B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DBC2-1FC3-41A2-B952-03AAADC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E7586-B2B7-4A5B-95C7-60119A9C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91CF7-49C9-4676-B61C-0E0FF0E5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CE330-0116-40C4-A062-64FC2679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DD78A-BCBA-4560-BA27-40575A2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6C894-7067-4C69-9E7B-3031F07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4F7-1CD5-4A1E-A62F-90BE11A1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6FDBA-F543-4190-BCFD-B0DFC054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7E13A-479E-419C-A596-87EBEEA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3679C-F366-4A00-9FF1-F4624FF6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33D7B-BBAB-4F52-B9D8-BDB6931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A36B1-F83F-4D6A-A98A-AA563413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67266-BAA3-42DB-8241-DB217FAD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6C151-9A26-4B1B-B15F-A08A8A1E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0A72-4CE9-4ED2-B3A2-BE155362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0CE3-3546-48D9-A9B7-E396520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2F55-4550-472E-A123-8CA8DB2C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848-9FAB-4D4A-BE56-D9E4F956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CD165-756D-4DBA-8D56-AC3DD8E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C1FD-0786-497D-8ED5-0C7A9D6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5239-18EC-4EC6-AD80-B3783C4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3A1F-E47F-475F-9D28-80416E0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BF5D-D1E9-46D8-BAB1-31ACFCF8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D8BC-5901-4AEB-94AE-F5E2039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99A5-D6E7-4CAD-A0F0-C8FFD5E5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04F3-7D9D-4441-A86B-492DFE0E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87EE-FA95-42CC-BEDF-5D39B9B9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96D08-41CE-45AD-9A16-12613754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3A4-BE5C-4EED-B097-6DCC64C6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8C80F-2B22-45B9-9D10-E1AB3A1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D5241-59BB-4A65-8A33-47E00B1B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63300-F6B0-4696-8F8F-12FB1AE2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913C4-05FD-4359-8438-66C72104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3D89B-7415-4723-9F9C-54D7FFC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EC5EC-AFD9-42E0-A8A5-0C442B5E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40076-B985-4F6C-A024-E52D0CE4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D9A7B-E939-4690-BAA5-81EEB0B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B7B88-ED29-43C1-A8CB-D5A93F65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72822-86E4-4962-8B78-C7F80037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449-BC64-4BEB-BD75-1821C11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78E40-359F-4800-8CDE-B65B3477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C2FA8-FCF1-4108-B8AC-CF83D197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21DBA-3DE1-4237-9572-E6BBB0FE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06CDD-FB9F-4594-BE7B-F10FC00F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0D834-4874-46F8-AB6C-2C11E500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60EE0-E3C1-4D52-B724-5FF09D3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3A4EE-1E2C-452B-9788-394FE615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97D2C-5EAA-47AC-B24C-FF2CC978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20619-E75B-4D0B-BF96-F4535384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D9963-79EE-4427-AC8E-C8170D52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B99-EDF8-4FF1-945B-3B6C3BB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55ECC-22AB-43F9-A0CA-81D6949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2B7BA-53C9-49C7-A512-0A1AE487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8C49E-3817-416D-B13B-316499FA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1ABE0F-8D72-49A0-AC0E-D7C824DA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D090B-DAB3-48CE-B0DF-DE9A6A6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099B2-5FA1-4A8E-9E1C-21F9080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8F9AE9-8E3F-4058-B187-0E613AF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E9ACD9-1D87-4CC8-9871-7A41B958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23EE15-ED9B-449C-B02A-CF050CA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3D495-C0BB-4F20-9ED1-4F78FA5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8E0-3475-4D62-8ECB-FE0B7ACB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1C792-D62C-4A83-83CD-639900C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7E9278-2A51-4705-832F-B2AE864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9FA3BE-8D00-48DC-981F-ECC74C14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0A404-3B92-4350-B23C-2E193E83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0E496-C2BD-43DC-97E9-0510A5C5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58B-D86B-43C0-8F30-F52DE7E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C5A0-A4BE-4F95-B0A3-EBB34ED41A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C8F-307A-4D9F-B60D-22A74C7F00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FE82-EFA0-4D8B-9000-0D470E0017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5B2-4AD1-42FF-9884-404E1144B5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79C0-1D87-479E-9F8B-4AEF1D7CE2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7B9-1A52-410B-A0A3-466A93945B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9E29-57CB-4A8C-A985-130C31F326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hptv.org/natureworks/nwep8b.htm" TargetMode="External"/><Relationship Id="rId3" Type="http://schemas.openxmlformats.org/officeDocument/2006/relationships/hyperlink" Target="http://buzzle.com/articles/taiga-biome-taiga-animals-and-plants.htm" TargetMode="External"/><Relationship Id="rId4" Type="http://schemas.openxmlformats.org/officeDocument/2006/relationships/hyperlink" Target="http://mbgnet.mobot.org/" TargetMode="External"/><Relationship Id="rId5" Type="http://schemas.openxmlformats.org/officeDocument/2006/relationships/hyperlink" Target="http://blueplantsbiomes.org/world_biomes.ht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6ecff"/>
                </a:solidFill>
                <a:latin typeface="Century Gothic"/>
              </a:rPr>
              <a:t>TAIGA</a:t>
            </a:r>
            <a:endParaRPr b="0" lang="en-US" sz="9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4952520"/>
            <a:ext cx="6172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cff"/>
                </a:solidFill>
                <a:latin typeface="Century Gothic"/>
              </a:rPr>
              <a:t>By Anushka Siewrattan, Kerry McCloskey, and Alyssa Marti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TEMPERATURE AND PRECIPITATION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1430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temperature is 0°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average precipitation is 100-200 cm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is warmer and wetter than a tundr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he taiga has long, severe winters and short, mild summer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all is the shortest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Flowers grow in spring and many of the animals come out of hibernation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Summer is a very rainy season in the taig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038480" y="685800"/>
            <a:ext cx="4133880" cy="5505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dgrd.jpg"/>
          <p:cNvPicPr/>
          <p:nvPr/>
        </p:nvPicPr>
        <p:blipFill>
          <a:blip r:embed="rId3"/>
          <a:stretch/>
        </p:blipFill>
        <p:spPr>
          <a:xfrm>
            <a:off x="304920" y="6248520"/>
            <a:ext cx="31104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Gothic"/>
              </a:rPr>
              <a:t>HUMAN IMPACT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Impact on the taiga i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Acid rain due to pollu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urning of fossil fuel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ower plants and factories burn coal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 trees get poisoned and lose nutrients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Global warming; organisms have trouble adapting to different climates 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4" name="Picture 5" descr="http://bioweb.uwlax.edu/bio203/s2009/nelson_lau4/Picea_glauca_taiga.jpg"/>
          <p:cNvPicPr/>
          <p:nvPr/>
        </p:nvPicPr>
        <p:blipFill>
          <a:blip r:embed="rId1"/>
          <a:stretch/>
        </p:blipFill>
        <p:spPr>
          <a:xfrm>
            <a:off x="1219320" y="3657600"/>
            <a:ext cx="6400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PLANTS IN THE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240" y="837720"/>
            <a:ext cx="4800600" cy="58676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sh climate and environmental conditions make it hard for plants to survive in the bio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 Black Spru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st common plant in Taiga because of its ability to grow in poor soil and cold climat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an reach a height of about 25 meter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tree branches are moderately shorter than other conifer trees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lack spruces needles are sharp and are about half an inch long with four sides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bark is rough, thick and gray-brown in color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400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The pinecones of spruce are a major food for the birds in Taiga biome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Picture 2" descr="http://www.biologyreference.com/images/biol_02_img0178.jpg"/>
          <p:cNvPicPr/>
          <p:nvPr/>
        </p:nvPicPr>
        <p:blipFill>
          <a:blip r:embed="rId2"/>
          <a:stretch/>
        </p:blipFill>
        <p:spPr>
          <a:xfrm>
            <a:off x="5105520" y="914400"/>
            <a:ext cx="3525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380880"/>
            <a:ext cx="4114800" cy="609624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2. Balsam Fi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alsam fir is a medium-sized; grows up to the height of 80 fee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allow roots that hardly reach 35 inch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grow at the right angle off the trunk of the tree, the lower branches are mostly dead and droop onto the ground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arks of the tree are resinous, smooth and gray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45720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Major food supplier for deer, moose, squirrels and other inhabitants in cold winter months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9" name="Picture 2" descr="http://www.fairplains.com/images/Balsam-Fir.jpg"/>
          <p:cNvPicPr/>
          <p:nvPr/>
        </p:nvPicPr>
        <p:blipFill>
          <a:blip r:embed="rId1"/>
          <a:stretch/>
        </p:blipFill>
        <p:spPr>
          <a:xfrm>
            <a:off x="4648320" y="609480"/>
            <a:ext cx="3276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09480"/>
            <a:ext cx="4038480" cy="59436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3. Jack Pin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Grows to about 27 meters tall, the base almost similar to the height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Young jack pines have reddish colored barks, older jack pines have gray bark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e branches are long, slender that bear needle leav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t is found in cold regions of the taiga that have sandy soil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eaves and pinecones are used as food for the rodents and other animals inhabiting the biome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1" name="Picture 2" descr="http://www.blueplanetbiomes.org/images/jack_pine.jpg"/>
          <p:cNvPicPr/>
          <p:nvPr/>
        </p:nvPicPr>
        <p:blipFill>
          <a:blip r:embed="rId1"/>
          <a:stretch/>
        </p:blipFill>
        <p:spPr>
          <a:xfrm>
            <a:off x="4724280" y="685800"/>
            <a:ext cx="2667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QUESTIONS ABOUT TAIGA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142640"/>
            <a:ext cx="7467480" cy="502596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as of the world is the taiga biome located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is it so difficult for plants to surviv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st common plant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areas of the taiga have a permafrost. What is a permafros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is global warming affecting the biotic factors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average temperature and precipitation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economical values lye in the taig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OMMERCIAL VALUES OF THE TAIGA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880" y="838080"/>
            <a:ext cx="74678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conomic values are fro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aigas have a lot of trees which is cut down for lumber, toilet paper, copy paper, and newsprint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More then 80% of taiga products are exported from Canada and sold in Americ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People hunt and fish in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There is diamond mining and coal mining in some regions of taiga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2362320" y="3809880"/>
            <a:ext cx="4762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ecff"/>
                </a:solidFill>
                <a:latin typeface="Century Gothic"/>
              </a:rPr>
              <a:t>WORKS CITED</a:t>
            </a:r>
            <a:endParaRPr b="0" lang="en-US" sz="26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ook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Dynamics of Life (National Geographic)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entury Gothic"/>
              </a:rPr>
              <a:t>Biology- The Sixth Edition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ebsites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2"/>
              </a:rPr>
              <a:t>http://Nhptv.org/natureworks/nwep8b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3"/>
              </a:rPr>
              <a:t>http://Buzzle.com/articles/taiga-biome-taiga-animals-and-plant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4"/>
              </a:rPr>
              <a:t>http://mbgnet.mobot.org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eb8803"/>
                </a:solidFill>
                <a:uFillTx/>
                <a:latin typeface="Century Gothic"/>
                <a:hlinkClick r:id="rId5"/>
              </a:rPr>
              <a:t>http://blueplantsbiomes.org/world_biomes.htm</a:t>
            </a: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24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Century Gothic"/>
              </a:rPr>
              <a:t>THE TAIGA…</a:t>
            </a:r>
            <a:endParaRPr b="0" lang="en-US" sz="36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1" name="Picture 2" descr="http://www.cas.vanderbilt.edu/bioimages/ecoregions/w50607taiga3506.jpg"/>
          <p:cNvPicPr/>
          <p:nvPr/>
        </p:nvPicPr>
        <p:blipFill>
          <a:blip r:embed="rId1"/>
          <a:stretch/>
        </p:blipFill>
        <p:spPr>
          <a:xfrm>
            <a:off x="990720" y="1371600"/>
            <a:ext cx="65307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BIOME STRETCHES ACROSS A LARGE AREA OF </a:t>
            </a:r>
            <a:br>
              <a:rPr sz="3200"/>
            </a:br>
            <a:r>
              <a:rPr b="0" lang="en-US" sz="3200" spc="-1" strike="noStrike">
                <a:solidFill>
                  <a:srgbClr val="d6ecff"/>
                </a:solidFill>
                <a:latin typeface="Century Gothic"/>
              </a:rPr>
              <a:t>CANADA, EUROPE, AND ASIA.</a:t>
            </a:r>
            <a:endParaRPr b="0" lang="en-US" sz="3200" spc="-1" strike="noStrike">
              <a:solidFill>
                <a:srgbClr val="d6ecff"/>
              </a:solidFill>
              <a:latin typeface="Century Gothic"/>
            </a:endParaRPr>
          </a:p>
        </p:txBody>
      </p:sp>
      <p:pic>
        <p:nvPicPr>
          <p:cNvPr id="363" name="Picture 5" descr="Taiga"/>
          <p:cNvPicPr/>
          <p:nvPr/>
        </p:nvPicPr>
        <p:blipFill>
          <a:blip r:embed="rId1"/>
          <a:stretch/>
        </p:blipFill>
        <p:spPr>
          <a:xfrm>
            <a:off x="1219320" y="1600200"/>
            <a:ext cx="665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ecff"/>
                </a:solidFill>
                <a:latin typeface="Century Gothic"/>
              </a:rPr>
              <a:t>TYPES OF ANIMALS</a:t>
            </a:r>
            <a:endParaRPr b="0" lang="en-US" sz="3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520" y="838080"/>
            <a:ext cx="8077320" cy="2819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awk Ow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Canada, extreme Northern U.S, Northern Asia, and Scandinavia in open areas of coniferous fores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as a longer tail than the usual ow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gs are short and point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6fb833"/>
              </a:buClr>
              <a:buSzPct val="6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nt during the day for mice, lemming, squirrels and other small mammals. They also eat birds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6fb833"/>
              </a:buClr>
              <a:buSzPct val="60000"/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25"/>
              </a:spcBef>
              <a:buClr>
                <a:srgbClr val="7fd13b"/>
              </a:buClr>
              <a:buSzPct val="80000"/>
              <a:buFont typeface="Century Gothic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5" descr="http://www.birdguides.com/birdnews/docs/OR135175.jpg"/>
          <p:cNvPicPr/>
          <p:nvPr/>
        </p:nvPicPr>
        <p:blipFill>
          <a:blip r:embed="rId1"/>
          <a:stretch/>
        </p:blipFill>
        <p:spPr>
          <a:xfrm>
            <a:off x="1828800" y="3886200"/>
            <a:ext cx="541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380520"/>
            <a:ext cx="4114800" cy="62485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ine Grosbea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s in Northern Scandinavia, Russia, Asia, Alaska, Canada, and Northern USA in coniferous and mixed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arge, long-tail fin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s its heavy bill to crush fruit such as cherries and plums. They also eat seeds, buds, and insec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les and females look different. Females are a more bronzer colo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5" descr="http://www.roysephotos.com/zzPineGrosbeak6D.jpg"/>
          <p:cNvPicPr/>
          <p:nvPr/>
        </p:nvPicPr>
        <p:blipFill>
          <a:blip r:embed="rId1"/>
          <a:stretch/>
        </p:blipFill>
        <p:spPr>
          <a:xfrm>
            <a:off x="4648320" y="533520"/>
            <a:ext cx="3343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419360" y="228600"/>
            <a:ext cx="3733560" cy="63244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Live in Europe: Scandinavia to Spain and Portugal, east through Asia to Siberia, Alaska, Canada, and Northern US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bitat is Coniferous forests and scrub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hort tails, tufted ears and cheeks, and coat color varie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coming scarce- strictly protected in most countrie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Nocturnal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476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talks prey, such as hares rodents young deer and birds, on the groun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5" descr="http://www.nature.org/wherewework/northamerica/states/montana/images/lynx_crop_web.jpg"/>
          <p:cNvPicPr/>
          <p:nvPr/>
        </p:nvPicPr>
        <p:blipFill>
          <a:blip r:embed="rId1"/>
          <a:stretch/>
        </p:blipFill>
        <p:spPr>
          <a:xfrm>
            <a:off x="304920" y="685800"/>
            <a:ext cx="399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04560" y="380520"/>
            <a:ext cx="8001000" cy="259092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uropean Red Squirr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ive in Europe, east to China, Korea and Japan in evergreen fores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opulation is abundant in Europe and Asi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t fungi, fruit, and mostly conifer con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Picture 5" descr="http://ciuk.files.wordpress.com/2007/08/red_squirrel-ray_eye.jpg?w=800&amp;h=543"/>
          <p:cNvPicPr/>
          <p:nvPr/>
        </p:nvPicPr>
        <p:blipFill>
          <a:blip r:embed="rId1"/>
          <a:stretch/>
        </p:blipFill>
        <p:spPr>
          <a:xfrm>
            <a:off x="1523880" y="3200400"/>
            <a:ext cx="5867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600" y="762120"/>
            <a:ext cx="8305920" cy="548640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yn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wide paws that work like snowshoes to help then more better in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izzly Bea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he ability to hold a protective layer of fat that lets them stay in their dens while its col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ray Wolf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rough and wooly fur coat to have insulation during the win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long legs and large paws to help them travel through thick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nowshoe Rabbi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nherited toes that can spread out, making look like a snowshoe that help it walk through snow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SzPct val="80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228600" y="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ecff"/>
                </a:solidFill>
                <a:latin typeface="Century Gothic"/>
              </a:rPr>
              <a:t>GEOLOGIC FEATURES</a:t>
            </a:r>
            <a:endParaRPr b="0" lang="en-US" sz="4000" spc="-1" strike="noStrike">
              <a:solidFill>
                <a:srgbClr val="d6ecff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914400"/>
            <a:ext cx="7162560" cy="2666880"/>
          </a:xfrm>
          <a:prstGeom prst="rect">
            <a:avLst/>
          </a:prstGeom>
          <a:noFill/>
          <a:ln w="9360">
            <a:solidFill>
              <a:srgbClr val="e5f6d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ck soil due to co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ntinuous belt of cone- bearing coniferous tre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me areas of the taiga have a layer of permafrost (permanently frozen layer of soi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oil is very infertile due to acid from conifer needles causing little plant lif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ound is made up of various bog stag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7" name="Picture 5" descr="http://www.wildnatureimages.com/S%20to%20Z/TEK-SUMMER-2..jpg"/>
          <p:cNvPicPr/>
          <p:nvPr/>
        </p:nvPicPr>
        <p:blipFill>
          <a:blip r:embed="rId1"/>
          <a:stretch/>
        </p:blipFill>
        <p:spPr>
          <a:xfrm>
            <a:off x="1676520" y="373392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2:27:47Z</dcterms:created>
  <dc:creator>xpstudent</dc:creator>
  <dc:description/>
  <dc:language>en-US</dc:language>
  <cp:lastModifiedBy>xpstudent</cp:lastModifiedBy>
  <dcterms:modified xsi:type="dcterms:W3CDTF">2010-10-28T12:15:24Z</dcterms:modified>
  <cp:revision>28</cp:revision>
  <dc:subject/>
  <dc:title>Taiga</dc:title>
</cp:coreProperties>
</file>